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8F4D-728A-4168-92B2-95FA48668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75BD-D88A-4DE6-8970-023B6BB34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3BFA-7C8A-4F89-8A01-2F955E0B2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EC5B-BEFF-431C-B88B-4DFA9E120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1F70E-76F5-4DE6-9860-8AB50C0ED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B9846-9CD0-4837-947D-1AF73006D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937BA-FAA8-4BEE-B219-B2936451A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4D9A4-7BF2-4D23-902B-D18BAE037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CF494-E699-4CC9-B28E-1DF90C270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6B9E0-C623-40B0-AAB1-CA8A31D05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9FB61-1FB1-49B0-AF37-D8166FF6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A946-CFFE-4447-A12E-DD58C4364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A2D8F-0297-41A5-95AB-CE71D0B5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D1CD1-CBF1-48F7-9CDE-5A5852BC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63230-5D5F-4882-917E-BB7A2E9F9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66F8E-63E0-41BD-BA51-3FC702557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37B56-3A4F-489C-A2E7-D3DEB88C7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F0A4-57B6-4F35-9E56-718B7EDAD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98B8-9EF1-4661-BBD9-5C3B821A2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0522-68EF-4DE8-BE4E-18B9DA5F1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C537-6963-4348-A62D-22AC2793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98F8-F403-46D7-90B1-23843C43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A121-4B42-4070-8F2F-55F071F3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FD4F-E785-4D35-B7B2-CB29FA5B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8C3FB-0606-4B99-ADAE-E2298757186D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4C811-31AB-45CF-815F-8583E73A024B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BAN_001biaot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1219320" y="2971800"/>
            <a:ext cx="7238880" cy="304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Language points</a:t>
            </a:r>
            <a:endParaRPr b="1" lang="en-US" sz="2400" spc="1" strike="noStrike">
              <a:ln w="12600">
                <a:solidFill>
                  <a:srgbClr val="ff00ff"/>
                </a:solidFill>
                <a:miter/>
              </a:ln>
              <a:solidFill>
                <a:srgbClr val="ff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28600" y="228600"/>
            <a:ext cx="868680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18.Charles Babbage is generally considered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the first comput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to invent  B.inventing  C.to have invented  D.having inven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19.Wet umbrellas are not allowed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into this hotel according to the ru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to be taken  B.to take  C.taken    D.tak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20.The patient was warned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oily food after the ope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to eat not   B.eating  C.not to eat   D.not e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21.The teacher ordered the classroom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t once and the students began to wor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to be cleaned  B. cleaned   C. .to  clean    D.being   clea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05320" y="11430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266688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37339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" y="51055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0"/>
            <a:ext cx="9144000" cy="64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22.We agreed 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here but so far she hasn’t turned up y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having met    B.meeting     C.to meet   D.to have m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23.---Does  your brother intend to study Germa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----Yes, he intends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\    B.to   C.so    D.th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24.—Let me tell you something about the journalis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---Don’t you remember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me the story yesterda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told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B.telling   C.to tell   D.to have to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25.To fetch water before breakfast seemed to me a rule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to never break   B.never to be broken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C.never to have broken     D.never to be breaking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26.The teacher asked us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so much noi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don’t make  B.not make  C.not making  D.not to ma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09880" y="609480"/>
            <a:ext cx="70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1905120"/>
            <a:ext cx="54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3886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828800" y="33526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438280" y="441972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86400" y="662940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562720" y="59436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685800"/>
            <a:ext cx="868680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e.g. He is working on a report of t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experi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3276720"/>
            <a:ext cx="613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.g. Time went by slowl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3762360"/>
            <a:ext cx="8915400" cy="11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Twenty years went by and her ha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was beginning to turn gray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5362560"/>
            <a:ext cx="8839080" cy="11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.g. Tom is/gets engaged to Mar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om and Mary are/get engag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6600" y="2819520"/>
            <a:ext cx="17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Comic Sans MS"/>
              </a:rPr>
              <a:t>2. go 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0280" y="4876920"/>
            <a:ext cx="50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ff"/>
                </a:solidFill>
                <a:latin typeface="Comic Sans MS"/>
              </a:rPr>
              <a:t>3. be/get engaged to s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5320" y="228600"/>
            <a:ext cx="555732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5000"/>
              </a:lnSpc>
              <a:buClr>
                <a:srgbClr val="ff99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ff"/>
                </a:solidFill>
                <a:latin typeface="Comic Sans MS"/>
              </a:rPr>
              <a:t>work on +n./pron./v.-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95280" y="1752480"/>
            <a:ext cx="6934320" cy="11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He is working on inventing a new machine for office wor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80880" y="3505320"/>
            <a:ext cx="876312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.g. Everything turned out satisfactory.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6000" y="838080"/>
            <a:ext cx="83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.g. You may go on with your discuss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1752480"/>
            <a:ext cx="84582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.g. He dreamed of becoming a pilo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96280" y="182520"/>
            <a:ext cx="365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ff"/>
                </a:solidFill>
                <a:latin typeface="Comic Sans MS"/>
              </a:rPr>
              <a:t>4. go on with st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0160" y="1371600"/>
            <a:ext cx="247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Comic Sans MS"/>
              </a:rPr>
              <a:t>5. dream o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71400" y="2362320"/>
            <a:ext cx="71362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hen he was in the middle schoo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34440" y="2895480"/>
            <a:ext cx="23295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Comic Sans MS"/>
              </a:rPr>
              <a:t>6. turn o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4194000"/>
            <a:ext cx="754380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t looked like rain this morning, bu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t has turned out to be a fine d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70880" y="5283360"/>
            <a:ext cx="694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ff"/>
                </a:solidFill>
                <a:latin typeface="Comic Sans MS"/>
              </a:rPr>
              <a:t>7. There is no point (in) doing st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33800" y="5821200"/>
            <a:ext cx="832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.g. There is no point in arguing fur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04920" y="0"/>
            <a:ext cx="350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9ff"/>
                </a:solidFill>
                <a:latin typeface="Comic Sans MS"/>
              </a:rPr>
              <a:t>Practic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685800"/>
            <a:ext cx="914400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(1)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To learn about the universe,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you need (2)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have a telescop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(3)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to observe the stars wit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. It takes time (4)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to know a ma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. Please remember (5)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to bring me a boo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. I’ve got a lot of work(6)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to do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5. (7)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In order to catch the first bus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,she got up earl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6. It is important for us(8)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to learn English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5410080"/>
            <a:ext cx="8077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Comic Sans MS"/>
              </a:rPr>
              <a:t>Subject: (4) (8)         Object; (2) (5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Comic Sans MS"/>
              </a:rPr>
              <a:t>Attribute; (3) (6)       Adverbial; (1) (7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30240"/>
            <a:ext cx="862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Comic Sans MS"/>
              </a:rPr>
              <a:t>Fill in the blanks with the right phras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1523880"/>
            <a:ext cx="8382240" cy="54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e _________ one day becoming a famous violini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Tom _____________ An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. Two weeks slowly _________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. His suggestion ___________ to be a good o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. He ____________ his in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6. If we don’t finish painting the room today, we c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___________ it tomorrow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7. He ____________ a nov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50080" y="1494000"/>
            <a:ext cx="16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Times New Roman"/>
              </a:rPr>
              <a:t>dreams o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98480" y="2133720"/>
            <a:ext cx="21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Times New Roman"/>
              </a:rPr>
              <a:t>is engaged 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68320" y="2757600"/>
            <a:ext cx="137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Times New Roman"/>
              </a:rPr>
              <a:t>went 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63400" y="3443400"/>
            <a:ext cx="17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Times New Roman"/>
              </a:rPr>
              <a:t>turned o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93920" y="4038480"/>
            <a:ext cx="226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Times New Roman"/>
              </a:rPr>
              <a:t>has  used  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8320" y="5348160"/>
            <a:ext cx="193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Times New Roman"/>
              </a:rPr>
              <a:t>go  on  wi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80880" y="5958000"/>
            <a:ext cx="22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Times New Roman"/>
              </a:rPr>
              <a:t>is working 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609480"/>
            <a:ext cx="7162920" cy="83844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533520"/>
            <a:ext cx="7102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work on,  be engaged to,  turn out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dream of, go by,  use up,  go on wi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8534520" cy="58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练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. Is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necessary to complete the design  before  National Da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A.this   B.that   C.it   D.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When and where to build the new factory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y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A.is not decided   B.are not decid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C.has not decided D.have not decid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3. To live in hearts we leave behind is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A.not to die   B.to not die   C.not dying   D.dying n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. She will tell us why she feels so strongly that each of us has a role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in making the earth a better place to liv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A.to have played   B.to play   C.to be played   D.to be play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133720" y="10666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ff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209680"/>
            <a:ext cx="22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ff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38862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ff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14600" y="5334120"/>
            <a:ext cx="77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ff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68440" y="6019920"/>
            <a:ext cx="8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imes New Roman"/>
                <a:ea typeface="仿宋_GB2312"/>
              </a:rPr>
              <a:t>不定式在句中可以做主语、表语、宾语、定语、状语、补足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04920" y="0"/>
            <a:ext cx="8458200" cy="67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5. When I handed the report to John, he said that George was the person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ff33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to send   B.for sending it  C.to send it to  D.for sending it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6.—The light in the office is still 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---Oh, I forgot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turning it off   B.turn it off  C.having turned it off  D.to turn it of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7.I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to believe that God could make me enter a universit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reject   B.require  C.insist   D.ref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8.She can’t help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the house  because she’s busy making a cak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to clean  B.cleaning  C.cleaned  D.being clea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9.Not everybody has the ability 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in publi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of speak  B.speaking  C.spoken   D.to spea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91120" y="9144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8880" y="25146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191120" y="40384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4920" y="51055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76920" y="62485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28600" y="380880"/>
            <a:ext cx="868680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10.Mary is always the first student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to answer the teacher’s questions in clas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ff33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rising    B.to rise   C.rose   D.ris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11.—Mum ,why do you always ask me to eat an egg every da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---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enough protein and nutrition  as you are growing u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Get   B.Getting   C.To get   D.To be get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12.—would you be so kind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us ou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---With pleasu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ff33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helping   B.in helping  C.help  D.as to hel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13.The purpose of new technologies is to make life easi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     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it more difficul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not  make  B. not to make  C.not making  D.do not ma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52480" y="1371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29718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48320" y="45720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81080" y="61722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0880" y="380880"/>
            <a:ext cx="8077320" cy="63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14.In Australia he made a lot of friends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 very practical knowledge of Englis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ff33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get   B.getting   C.to get   D.g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15.European football is played in 80 countries,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it the most popular sports in the worl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making  B.makes  C.made   D.to ma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16.Yesterday I went to see him,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that he had gone abroad two days befo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only to learn   B.to learn only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C.only learned   D.only learning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ff33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Paul doesn’t have to be made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.He always works har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learn     B.to learn   C.learned    D.learning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95480" y="137160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2743200"/>
            <a:ext cx="77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4267080"/>
            <a:ext cx="70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52480" y="621648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4T08:39:20Z</dcterms:created>
  <dc:creator>dyzt</dc:creator>
  <dc:description/>
  <dc:language>en-US</dc:language>
  <cp:lastModifiedBy>dyzt</cp:lastModifiedBy>
  <dcterms:modified xsi:type="dcterms:W3CDTF">2004-08-05T09:00:51Z</dcterms:modified>
  <cp:revision>9</cp:revision>
  <dc:subject/>
  <dc:title>PowerPoint 演示文稿</dc:title>
</cp:coreProperties>
</file>